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  <p:custShowLst>
    <p:custShow name="Apresentação personalizada 1" id="0">
      <p:sldLst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0BE-EC9A-4B63-B944-AB34A251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94E-D623-4D1A-91CD-38C770D2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49F-F076-42EB-9947-7FB6F2DE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ED4-71DD-43B2-B24D-004E6DA9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5BC2-DDA4-424C-A45D-BB176B6E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99AF-1DFD-4438-BE6D-9B9B85E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2444-93CF-414D-9002-C2D50D74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2992-BD15-499C-852C-F7BAC4C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8F7-8FE9-4EB8-A0BE-83E81266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4474-9974-476C-9466-BA44689F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680-82FC-466B-BAC2-B542855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3F4-E37E-44F4-ABC1-081205F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7F12-CF1D-4B76-8475-4130290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900A-CCB1-4B55-A4B2-75151DC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8D62-82E2-460D-840D-0AB72D10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C89-067B-4D38-B669-1F6035C1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BB53-8501-42CD-8827-B757C570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2974C-189B-4749-AC77-0EF654E3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7613C-2A61-4032-86AB-750E051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05B1C-346A-412B-AED7-E70A5437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56955-4147-4D1D-BB9E-76652E19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7ECFC-7343-4D01-9E5D-02FBFBBD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BC2-1332-4EE0-B9BF-0848D0E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C74B5-1FAD-4544-920E-0D3630EB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C8E1B-FC87-414A-98B5-E43287D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5AB24-972A-4C7D-8198-8520A96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8FFFD-2D7D-4C6A-B906-32CD586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125BE-68C2-4434-818E-CF6477D2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C9B48-104E-4AF6-B835-692D4D38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5C933-8E67-4AA1-8BD3-768C1FCA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2BE0-9FF0-4C7E-9711-FC64012F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B2ED-A95A-4123-8DC0-541EEF7F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78BA-4715-4BD0-9200-9C6C91B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F9D-9F9F-483B-AFB2-8A6FC8CA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371C-95B5-4B54-B073-F998F106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E4AD-1B5A-4F20-8345-19417FD7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3DA3-2239-4AD5-92D8-327DB5D8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CE77-BA31-46EE-8AE2-D8583BB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C836-DFAE-422A-8DB3-21F7D39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E0D6-8172-4997-B019-BB94BED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D314-AA94-4370-A1AD-FDB0CD66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E1E7-16E8-4428-912D-4D88034D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A080-8944-4B91-A7E4-261492B8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7EDF5-2B57-4312-AA17-B197228B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56D-0FDA-4A77-8548-C2C95F38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5F6D2-6FBE-430A-850F-3C4C8DF2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E58AB-C90E-4D8C-86C3-31013C8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DC1E3-F71F-4AF5-9155-3B735C9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F0462-1344-4B91-BAD7-8A1FAD30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26108-EA8B-47A1-9E04-02E9C475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5D5B4-C2DD-414C-A69E-DD3066E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367FE-AB0C-46F1-A8B5-2B5BE40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9CB75-EC88-4C10-B411-BC9FE82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ACD96-0569-4F02-9708-1054DBDB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6ED4B-D73E-4823-BC07-AE5D0988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E9F-DFD6-430F-8548-CD594BE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C62AF-9249-466A-90E9-994258EA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A7976-8392-4F41-8910-EC975FDD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93534-EA5D-459B-8296-C913347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22D51-44FA-4276-9486-6425E8BC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24F94-58A1-4280-BB41-7E12D124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9D459-58F2-4781-B5A1-73B64E64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9D2D9-6C2A-491A-81CA-B8CDCBC3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7E1FE5-01EC-443F-923F-1706579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96BB0-9150-4C2D-B8FE-ABCFD61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ED0B0-A993-4EA2-9E4E-CFDCF568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34A-47E8-450F-882B-F70787A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6F570-A886-4343-A0A0-72BE8AD9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0DDB1-B5F7-4665-AC3C-91724B51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69DCA-1CD9-4CFD-B578-C181F606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B6C4B-9DD5-45B9-9044-1F7E6A7F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6BEE1-2DF4-471F-ADFF-92A51A7B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9E812-AD87-4367-82F0-7B23C88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0410A-5CA0-4910-AE61-A501D1C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7DDB3-8731-4EE1-A57C-B2C5C708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7C832-2A71-47F6-89E8-3E167B60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9EB0A-28DD-40A2-95E7-0EB82B2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7B2-75F1-43B3-A84B-07722D3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03915-9AFE-4EAC-80EA-2AE7D2D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F1F88-AA39-4F8F-83E2-C9C22ED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F85CF-3D7F-4DF0-A5E8-FF26FD25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1BE34-52B8-4B2F-8E6A-74D3A8AE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E5607-DFE4-4B00-AEB0-F03C5B82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FDA-FFE9-4EFB-ACCC-D8D260D7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511-ECAE-425B-9326-51A0F8438A7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Conector reto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tângu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AD0-FAD9-4563-B93D-651A27D1A70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2BB-35A2-4C2C-8844-BD55F32A662C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tângu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tângu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tângu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Conector reto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Conector reto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Conector reto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Conector reto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Conector reto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Conector reto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669-9D81-476F-AA0D-A14CA67E634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072-9376-4370-8A73-346F95F6B46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Conector reto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tângu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3C45-0BF7-4635-A204-51DDAE568AA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Conector reto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0184-3A92-4C4F-97D5-787622A97567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ANÁLISE DE PROJETO</a:t>
            </a:r>
            <a:br>
              <a:rPr sz="2700"/>
            </a:b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CONHECENDO SUA HISTÓRIA</a:t>
            </a:r>
            <a:br>
              <a:rPr sz="2700"/>
            </a:b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REALIZADO  PELA E.E. JOSÉ FERREIRA EM TRÊS LAGOAS-MS</a:t>
            </a:r>
            <a:br>
              <a:rPr sz="2700"/>
            </a:br>
            <a:r>
              <a:rPr b="1" lang="pt-BR" sz="2700" spc="-1" strike="noStrike">
                <a:solidFill>
                  <a:srgbClr val="575f6d"/>
                </a:solidFill>
                <a:latin typeface="Century Schoolbook"/>
              </a:rPr>
              <a:t>O PROJETO VISOU O CONHECIMENTO HISTÓRICO E CRITICO DOS ALUNOS SOBRE  A VILA DE PESCADORES DO JUPIÁ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914560" y="692280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total de alunos 7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Realizado entre os meses de agosto a novembro de 200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bjetivo geral: conscientização da sua própria história e como ser um agente histór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valiação e conclusão: Realização de uma exposição com cartazes e fotos sobre a construção da usina Hidrelétrica do “Jupiá”,e  da vida dos afetados por barrage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ANÁLISE FEITA POR: JOÃO BATISTA LAZARINI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ARA O CURSO TIC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TUTORA: AZENAIDE</a:t>
            </a:r>
            <a:br>
              <a:rPr sz="3000"/>
            </a:b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NOVA ANDRADINA 200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6072120"/>
            <a:ext cx="746748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6:30:52Z</dcterms:created>
  <dc:creator>joão</dc:creator>
  <dc:description/>
  <dc:language>en-US</dc:language>
  <cp:lastModifiedBy>joão</cp:lastModifiedBy>
  <dcterms:modified xsi:type="dcterms:W3CDTF">2009-05-29T16:47:33Z</dcterms:modified>
  <cp:revision>2</cp:revision>
  <dc:subject/>
  <dc:title>Análise de projeto conhecendo sua História realizado  pela E.E. José Ferreira em Três Lagoas-MS o projeto visou o conhecimento histórico e critico dos alunos sobre  a vila de pescadores do Jupiá.</dc:title>
</cp:coreProperties>
</file>